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-2-D110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9F5F-67E5-497D-99B5-1750C9439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D804-B907-4916-81A4-9ED6AAE05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EA82-8A55-485B-AB27-4401E3552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2-2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C9C-9934-42BC-8F9A-B06879D3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8FE-E813-4EE5-9AD9-401E96CE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3E3-7F3E-4205-B258-75BA6D12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CE6-F807-49E5-A4B0-2F7905AE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234E-CD36-420A-B608-D9DAFB61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65DA-8B2A-4560-8770-D7D4B43E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616C-C073-487C-83E0-A81535AC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9833-F87B-43AF-B08F-20946D97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7763-B2FD-49FB-8FD0-59568B56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096D-E4E4-4180-A7FC-118506A3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F841-66EB-4EA3-8A63-FFA7F82F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8DF-3862-4FF9-9506-A7B947E5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7148-98EB-40C2-831F-955358B9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1A6A-0F31-4958-9A0A-DB383CB8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A156-4A26-416B-9AB8-4132C995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8A45-4D2E-4B56-A489-85FF998A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D94B-5CD4-4F17-83A3-6962CA31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E07-A7A0-4128-AB37-4889CE11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590-B15A-4A4D-BD66-0B596059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792-5DB5-4678-ACB1-E339CFF8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980-09D2-41F2-8996-5BC3646C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E3C-D32C-4F7C-9106-384800F1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8680-D1CA-418B-806D-880618C5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8A7-7B16-4D05-A66F-225D54FB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1B86-BF67-4B4F-B1D6-7184C78AB10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2-01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001F-4667-457A-A7A7-A49ADDF5E6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bar"/>
          <p:cNvPicPr/>
          <p:nvPr/>
        </p:nvPicPr>
        <p:blipFill>
          <a:blip r:embed="rId2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0"/>
          <p:cNvSpPr/>
          <p:nvPr/>
        </p:nvSpPr>
        <p:spPr>
          <a:xfrm>
            <a:off x="6700680" y="6554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1-</a:t>
            </a:r>
            <a:fld id="{1A6305F1-DC00-49D3-BADD-3989228A07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bar"/>
          <p:cNvPicPr/>
          <p:nvPr/>
        </p:nvPicPr>
        <p:blipFill>
          <a:blip r:embed="rId2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"/>
          <p:cNvSpPr/>
          <p:nvPr/>
        </p:nvSpPr>
        <p:spPr>
          <a:xfrm>
            <a:off x="6700680" y="6554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1-</a:t>
            </a:r>
            <a:fld id="{9AE3F1EC-0E07-404C-AC2E-AF4BC63E67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bar"/>
          <p:cNvPicPr/>
          <p:nvPr/>
        </p:nvPicPr>
        <p:blipFill>
          <a:blip r:embed="rId3"/>
          <a:stretch/>
        </p:blipFill>
        <p:spPr>
          <a:xfrm>
            <a:off x="-9360" y="6486480"/>
            <a:ext cx="9162720" cy="37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D14D-B6EE-4F74-B942-17D081C186A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2-01-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09B3-266F-4141-AC6D-7F96521459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7"/>
          <p:cNvSpPr/>
          <p:nvPr/>
        </p:nvSpPr>
        <p:spPr>
          <a:xfrm>
            <a:off x="938520" y="1835280"/>
            <a:ext cx="206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 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36680" y="222120"/>
            <a:ext cx="7988040" cy="199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99ff"/>
                </a:solidFill>
                <a:latin typeface="Arial Black"/>
              </a:rPr>
              <a:t>Final Scenario/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99ff"/>
                </a:solidFill>
                <a:latin typeface="Arial Black"/>
              </a:rPr>
              <a:t>Final Exa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Users\kimkkaralus\AppData\Local\Microsoft\Windows\Temporary Internet Files\Content.IE5\2UWR0DC2\exam-sweat2[1].gif"/>
          <p:cNvPicPr/>
          <p:nvPr/>
        </p:nvPicPr>
        <p:blipFill>
          <a:blip r:embed="rId2"/>
          <a:stretch/>
        </p:blipFill>
        <p:spPr>
          <a:xfrm>
            <a:off x="3176640" y="1220760"/>
            <a:ext cx="48387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7"/>
          <p:cNvSpPr/>
          <p:nvPr/>
        </p:nvSpPr>
        <p:spPr>
          <a:xfrm>
            <a:off x="700200" y="2593800"/>
            <a:ext cx="7461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 final scenari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 final exa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36680" y="417600"/>
            <a:ext cx="7988040" cy="14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93f1"/>
                </a:solidFill>
                <a:latin typeface="Verdana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64960" y="6499080"/>
            <a:ext cx="70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-110 Unit 1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l Scenario/ Ex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835760" y="6541920"/>
            <a:ext cx="11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-1-D110-E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21:12:19Z</dcterms:created>
  <dc:creator>isather</dc:creator>
  <dc:description/>
  <dc:language>en-US</dc:language>
  <cp:lastModifiedBy>Sunderland, Amber</cp:lastModifiedBy>
  <dcterms:modified xsi:type="dcterms:W3CDTF">2021-04-29T00:41:18Z</dcterms:modified>
  <cp:revision>141</cp:revision>
  <dc:subject/>
  <dc:title>Unit 1: Expanded Dispatch Organization</dc:title>
</cp:coreProperties>
</file>